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7F3F-4E96-4F5C-A53A-954BB0C5C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97AC-89DA-4A76-B7AC-11DA297D7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0FB7-A119-4FD2-957E-98C41C77F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1DEF-B16C-4C8E-A7E8-3DEEDEFA2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1581-BC11-49C7-9243-B47CF0369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26B5-DE55-422C-981B-8DD9F2D2E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5C5B-598B-4A8E-B799-42BCE54CB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239A-D75D-4EC8-BD47-8398D30CE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67AE-9C03-4D36-8E49-41ACA0B91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40EE-B482-4F74-B0C6-25ACB446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0004-611E-4ACE-ABE1-702D5A6A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9010-2B99-4754-82AD-64C414DA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9AB91-4BAC-47C2-AC43-6DF46BA946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inting function 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Jstart 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8T18:55:45Z</dcterms:created>
  <dc:creator>Administrator</dc:creator>
  <dc:description/>
  <dc:language>en-US</dc:language>
  <cp:lastModifiedBy>Administrator</cp:lastModifiedBy>
  <dcterms:modified xsi:type="dcterms:W3CDTF">2003-02-28T18:56:07Z</dcterms:modified>
  <cp:revision>1</cp:revision>
  <dc:subject/>
  <dc:title>The printing function works</dc:title>
</cp:coreProperties>
</file>